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.wmf" ContentType="image/x-wmf"/>
  <Override PartName="/ppt/media/image26.wmf" ContentType="image/x-wmf"/>
  <Override PartName="/ppt/media/image2.jpeg" ContentType="image/jpeg"/>
  <Override PartName="/ppt/media/image25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16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29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3.5 - </a:t>
            </a:r>
            <a:fld id="{A9923098-A228-486D-84C9-1D05396E63C4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image" Target="../media/image22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.wmf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image" Target="../media/image29.png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.wmf"/><Relationship Id="rId2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55640" y="0"/>
            <a:ext cx="5832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2104920" y="343080"/>
              <a:ext cx="4934160" cy="6172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equalities with Absolute Valu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1488960"/>
            <a:ext cx="7696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&lt; 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quivalent to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&lt;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≥ 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equivalent to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≤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≥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 3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≤ 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quivalent to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&lt;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601992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ve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and graph the solution s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905120"/>
            <a:ext cx="807732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705720" y="1359000"/>
          <a:ext cx="167616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1359000"/>
                    <a:ext cx="16761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098880" y="2092320"/>
          <a:ext cx="218448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98880" y="2092320"/>
                    <a:ext cx="21844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3384720" y="2701800"/>
          <a:ext cx="1663560" cy="29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84720" y="2701800"/>
                    <a:ext cx="166356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3403440" y="3032280"/>
          <a:ext cx="154944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03440" y="3032280"/>
                    <a:ext cx="15494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1600200" y="4948200"/>
            <a:ext cx="6311880" cy="160488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685800" y="3908520"/>
            <a:ext cx="7315200" cy="927000"/>
            <a:chOff x="685800" y="3908520"/>
            <a:chExt cx="7315200" cy="927000"/>
          </a:xfrm>
        </p:grpSpPr>
        <p:sp>
          <p:nvSpPr>
            <p:cNvPr id="171" name=""/>
            <p:cNvSpPr/>
            <p:nvPr/>
          </p:nvSpPr>
          <p:spPr>
            <a:xfrm>
              <a:off x="685800" y="4114800"/>
              <a:ext cx="281952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solution set is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2" name=""/>
            <p:cNvGraphicFramePr/>
            <p:nvPr/>
          </p:nvGraphicFramePr>
          <p:xfrm>
            <a:off x="3619440" y="3908520"/>
            <a:ext cx="4381560" cy="927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619440" y="3908520"/>
                      <a:ext cx="4381560" cy="9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601992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ve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and graph the solution s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905120"/>
            <a:ext cx="807732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711840" y="1359000"/>
          <a:ext cx="166392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1840" y="1359000"/>
                    <a:ext cx="166392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2514600" y="2092320"/>
          <a:ext cx="403848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2092320"/>
                    <a:ext cx="40384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2806560" y="2701800"/>
          <a:ext cx="3822840" cy="29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06560" y="2701800"/>
                    <a:ext cx="382284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3390840" y="3305160"/>
          <a:ext cx="2476440" cy="29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90840" y="3305160"/>
                    <a:ext cx="24764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5" name=""/>
          <p:cNvGrpSpPr/>
          <p:nvPr/>
        </p:nvGrpSpPr>
        <p:grpSpPr>
          <a:xfrm>
            <a:off x="304920" y="4105440"/>
            <a:ext cx="8642160" cy="653760"/>
            <a:chOff x="304920" y="4105440"/>
            <a:chExt cx="8642160" cy="653760"/>
          </a:xfrm>
        </p:grpSpPr>
        <p:sp>
          <p:nvSpPr>
            <p:cNvPr id="186" name=""/>
            <p:cNvSpPr/>
            <p:nvPr/>
          </p:nvSpPr>
          <p:spPr>
            <a:xfrm>
              <a:off x="304920" y="4114800"/>
              <a:ext cx="281916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solution set is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7" name=""/>
            <p:cNvGraphicFramePr/>
            <p:nvPr/>
          </p:nvGraphicFramePr>
          <p:xfrm>
            <a:off x="3154320" y="4105440"/>
            <a:ext cx="5792760" cy="533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154320" y="4105440"/>
                      <a:ext cx="579276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89" name="" descr=""/>
          <p:cNvPicPr/>
          <p:nvPr/>
        </p:nvPicPr>
        <p:blipFill>
          <a:blip r:embed="rId11"/>
          <a:stretch/>
        </p:blipFill>
        <p:spPr>
          <a:xfrm>
            <a:off x="1676520" y="5029200"/>
            <a:ext cx="627696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TER 3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Quadratic 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Functions and Eq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u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at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io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ns; 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Inequalitie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360" y="251424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mplex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dratic Equations, Functions, Zeros, and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ing Graphs of Quadratic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ing Rational Equations and Radical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ving Equations and Inequalities with Absolute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3.5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olving Equations and Inequalities with Absolute Valu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3123720"/>
            <a:ext cx="74674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equations with absolute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inequalities with absolute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quations with Absolute Valu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6858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0 and an algebraic expres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equivalent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or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36576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olutions are –5 and 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666880" y="2514600"/>
          <a:ext cx="30607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514600"/>
                    <a:ext cx="30607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362320" y="1523880"/>
          <a:ext cx="99036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1523880"/>
                    <a:ext cx="99036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990720" y="2209680"/>
            <a:ext cx="7619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428148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heck, note that –5 and 5 are both 5 units from 0 on the number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286000" y="5311800"/>
            <a:ext cx="463536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4864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check the possible solutions –2 and 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9880" y="3263760"/>
          <a:ext cx="1384560" cy="4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263760"/>
                    <a:ext cx="138456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311560" y="1523880"/>
          <a:ext cx="195552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11560" y="1523880"/>
                    <a:ext cx="195552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990720" y="220968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549440" indent="-1549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, add one to both sides to get the expression in the form  |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66880" y="4502160"/>
          <a:ext cx="3543480" cy="3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4502160"/>
                    <a:ext cx="35434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254320" y="3949560"/>
          <a:ext cx="4495680" cy="31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54320" y="3949560"/>
                    <a:ext cx="44956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96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Times New Roman"/>
              </a:rPr>
              <a:t>Che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–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8800" y="1904760"/>
            <a:ext cx="396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Times New Roman"/>
              </a:rPr>
              <a:t>Che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8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6520" y="1244520"/>
            <a:ext cx="52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ssible solutions are –2 and 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33880" y="457200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56386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olutions are –2 and 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62120" y="2514600"/>
            <a:ext cx="2209680" cy="2362320"/>
            <a:chOff x="762120" y="2514600"/>
            <a:chExt cx="2209680" cy="2362320"/>
          </a:xfrm>
        </p:grpSpPr>
        <p:grpSp>
          <p:nvGrpSpPr>
            <p:cNvPr id="120" name=""/>
            <p:cNvGrpSpPr/>
            <p:nvPr/>
          </p:nvGrpSpPr>
          <p:grpSpPr>
            <a:xfrm>
              <a:off x="762120" y="3048120"/>
              <a:ext cx="2209680" cy="1828800"/>
              <a:chOff x="762120" y="3048120"/>
              <a:chExt cx="2209680" cy="1828800"/>
            </a:xfrm>
          </p:grpSpPr>
          <p:sp>
            <p:nvSpPr>
              <p:cNvPr id="121" name=""/>
              <p:cNvSpPr/>
              <p:nvPr/>
            </p:nvSpPr>
            <p:spPr>
              <a:xfrm>
                <a:off x="762120" y="3048120"/>
                <a:ext cx="220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8280" y="30481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438280" y="3809880"/>
                <a:ext cx="0" cy="1067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24" name=""/>
            <p:cNvGraphicFramePr/>
            <p:nvPr/>
          </p:nvGraphicFramePr>
          <p:xfrm>
            <a:off x="977760" y="2514600"/>
            <a:ext cx="1841760" cy="46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77760" y="2514600"/>
                      <a:ext cx="184176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6" name=""/>
          <p:cNvGraphicFramePr/>
          <p:nvPr/>
        </p:nvGraphicFramePr>
        <p:xfrm>
          <a:off x="571680" y="3225960"/>
          <a:ext cx="2489040" cy="46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680" y="3225960"/>
                    <a:ext cx="248904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066680" y="3733920"/>
          <a:ext cx="978120" cy="46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3733920"/>
                    <a:ext cx="97812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384200" y="4260960"/>
          <a:ext cx="673200" cy="30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84200" y="4260960"/>
                    <a:ext cx="67320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854360" y="4686480"/>
          <a:ext cx="111744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54360" y="4686480"/>
                    <a:ext cx="11174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7318440" y="457200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846680" y="2514600"/>
            <a:ext cx="2209680" cy="2362320"/>
            <a:chOff x="4846680" y="2514600"/>
            <a:chExt cx="2209680" cy="2362320"/>
          </a:xfrm>
        </p:grpSpPr>
        <p:grpSp>
          <p:nvGrpSpPr>
            <p:cNvPr id="136" name=""/>
            <p:cNvGrpSpPr/>
            <p:nvPr/>
          </p:nvGrpSpPr>
          <p:grpSpPr>
            <a:xfrm>
              <a:off x="4846680" y="3048120"/>
              <a:ext cx="2209680" cy="1828800"/>
              <a:chOff x="4846680" y="3048120"/>
              <a:chExt cx="2209680" cy="1828800"/>
            </a:xfrm>
          </p:grpSpPr>
          <p:sp>
            <p:nvSpPr>
              <p:cNvPr id="137" name=""/>
              <p:cNvSpPr/>
              <p:nvPr/>
            </p:nvSpPr>
            <p:spPr>
              <a:xfrm>
                <a:off x="4846680" y="3048120"/>
                <a:ext cx="220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523200" y="30481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523200" y="3809880"/>
                <a:ext cx="0" cy="1067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40" name=""/>
            <p:cNvGraphicFramePr/>
            <p:nvPr/>
          </p:nvGraphicFramePr>
          <p:xfrm>
            <a:off x="5062680" y="2514600"/>
            <a:ext cx="1841400" cy="469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062680" y="2514600"/>
                      <a:ext cx="184140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2" name=""/>
          <p:cNvGraphicFramePr/>
          <p:nvPr/>
        </p:nvGraphicFramePr>
        <p:xfrm>
          <a:off x="4863960" y="3225960"/>
          <a:ext cx="2298960" cy="469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63960" y="3225960"/>
                    <a:ext cx="22989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5359320" y="3733920"/>
          <a:ext cx="787320" cy="469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59320" y="3733920"/>
                    <a:ext cx="78732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5468760" y="4260960"/>
          <a:ext cx="673200" cy="30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68760" y="4260960"/>
                    <a:ext cx="67320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5938920" y="4686480"/>
          <a:ext cx="1117440" cy="380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938920" y="4686480"/>
                    <a:ext cx="11174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ore About Absolute Value Equ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, |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quivalent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at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 0, |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no solution, because the absolute value of an expression is never nega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olution is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pty 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eno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464160" y="3568680"/>
          <a:ext cx="47016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4160" y="3568680"/>
                    <a:ext cx="47016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equalities with Absolute Valu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1488960"/>
            <a:ext cx="7696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equalities sometimes contain absolute-value notation. The following properties are used to solve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0 and an algebraic expres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quivalent to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&g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equivalent to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  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statements hold for |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|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dc:language>en-US</dc:language>
  <cp:lastModifiedBy>Cathy Lovingier</cp:lastModifiedBy>
  <dcterms:modified xsi:type="dcterms:W3CDTF">2008-04-17T15:28:37Z</dcterms:modified>
  <cp:revision>258</cp:revision>
  <dc:subject/>
  <dc:title>No Slide Title</dc:title>
</cp:coreProperties>
</file>